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74BD0-78B1-40A4-B0D8-7A6F2670A7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C9AA3-4EE7-4B04-961E-8A1CCAED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E7C90-9F59-4FEB-9A7D-842C8445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0FA1C-4324-4BA3-A0D1-FF2271434B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AA49C-4BF2-4D03-8163-4F14C902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4E261-1C20-43B4-B301-7AA64604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E48C8-F33C-4335-B920-D97FD956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225E3-8802-460B-9D85-D2A7D0E7E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82C10-88E0-40CA-A4D2-ED687AFFE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ADC1E-155F-46EB-B206-1423DE1F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584A9-4787-485D-A5F7-B47D2F2A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62122-D8E2-4F1C-BD75-8845D4C3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1E3D-BF57-4345-8C55-ADC0C32B02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Wave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label the dia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lk in your group and discuss how wave power generates electricity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your answers to exercise 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match the two parts of each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3 on the worksheet: write sentences using the pro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Fabio</cp:lastModifiedBy>
  <dcterms:modified xsi:type="dcterms:W3CDTF">2008-10-31T12:07:50Z</dcterms:modified>
  <cp:revision>32</cp:revision>
  <dc:subject/>
  <dc:title>  </dc:title>
</cp:coreProperties>
</file>